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E8B-C878-4F9C-990D-DA6CDB99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6DD-DF40-4F87-9A4A-5677C03A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CA8-3DF1-497B-8EAE-9AB1412B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DDA-0616-4D0E-886A-3820D284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157-FBD7-4368-8B70-A9A381D2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798-028A-46F5-9EB0-A02473CE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C99-FA64-44D3-ABFC-3F7BD081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03A-8941-4C0A-90D4-61CB816C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EF6-8E23-4E4A-B651-4F0EA5E7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088-6652-4CCD-BE4B-A7E164B8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FFE-F5A0-4546-9159-7C7963FE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6B7-9E9C-462C-9C99-48415412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164B-7CEE-4DEA-8FF5-43B8A012D1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Operációs rendszerek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Holtpon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 kezelő lefoglalja a II szalagot a B folyamat szám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 folyamatnak szüksége van a másik szalagos egységre is, kéri az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 kezelő szabad erőforrás híján várakoztatja A-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B folyamatnak szüksége van a másik szalagos egységre is, kéri az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 kezelő szabad erőforrás híján várakoztatja B-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 A mind B várakozik a másikra, a helyzet reménytel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Holtpon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3068640"/>
            <a:ext cx="720720" cy="720720"/>
          </a:xfrm>
          <a:prstGeom prst="ellips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2997360"/>
            <a:ext cx="720720" cy="720720"/>
          </a:xfrm>
          <a:prstGeom prst="ellips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1700280"/>
            <a:ext cx="1726920" cy="79200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4508640"/>
            <a:ext cx="1727280" cy="79200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254200">
            <a:off x="1979640" y="249228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3395600">
            <a:off x="1692360" y="4365360"/>
            <a:ext cx="1800000" cy="215640"/>
          </a:xfrm>
          <a:prstGeom prst="rightArrow">
            <a:avLst>
              <a:gd name="adj1" fmla="val 50000"/>
              <a:gd name="adj2" fmla="val 208681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33800">
            <a:off x="5508720" y="2276640"/>
            <a:ext cx="1800000" cy="215640"/>
          </a:xfrm>
          <a:prstGeom prst="rightArrow">
            <a:avLst>
              <a:gd name="adj1" fmla="val 50000"/>
              <a:gd name="adj2" fmla="val 208681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8202600">
            <a:off x="5508360" y="4220640"/>
            <a:ext cx="1800000" cy="216000"/>
          </a:xfrm>
          <a:prstGeom prst="rightArrow">
            <a:avLst>
              <a:gd name="adj1" fmla="val 50000"/>
              <a:gd name="adj2" fmla="val 208333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55897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tponti erőforrás foglalási grá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Kiéheztetés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eginkább konzervatív megoldás ha megtíltjuk, hogy egyszerre több folyamat ir rendelkezzen erőforrás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gyük fel, hogy a rendszer minfkét szalagos egysége szab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 folyamat igényel egy szalagos egysé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rőforrás kezelő lefoglalja az I szalagot az A folyamat számá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B folyamt igényel egy szalagos egysé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rőforrás kezelő várakoztatja B-t , hiszen A-nak már adott egy erőforrá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 folyamatnak szüksége van a másik szalagos egységre, kéri az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rőforás kezelő lefoglalja a II szalagot is az A folyamat számá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unkája végeztével A felszabadítja az I és a II egysé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Kiéhezteté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 kezelő lefoglalja az I szalagot az B folyamat szám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B folyamatnak szüksége van a másik szalagos egységre, kéri az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ás kezelő lefoglalja a II szalagot is az B folyamat szám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unkája végeztével B felszabadítja az I és a II egysé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folyamat – az erőforrás kezelő stratégiája miatt – beláthatatlan ideig nem jut erőforrásho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A vacsorázó bölcsek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5 kinai bölcs ül egy kerek asztal körül, mindegyik elött ott egy tányér rizs, és a szomszédos tányérok között 1-1 pálcik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véshez két pálcika kell, ezért egy bölcsnek mind a jobb-, mind a baloldali pálcikát meg kell szereznie, hogy elkezdhessen enn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egy bölcs eszik, akkor egyik szomszédja sem tud, hiszen legalább az egyik pálcikája hiányzik hozz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mindegyik bölcs egyszere jut arra a döntésre, hogy először a bal-, majd a jobboldali pálcikát veszi kézbe, mindenkinek csak egy pálcika jut, senki sem tud enni, HOLTPONT-ra jut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Holtpont kezelő stratégiák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oltpont kialakulásának 4 feltétele, melynek egyidejű teljesülése szüksé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lcsönös kizárás 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árakozás közben lekötés törté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ablás nin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ikus várakozás 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oltpont megelőző stratégi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etlen foglalási lehetőség (One-shot alloc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angsor szerinti foglalás (Hierarchical alloca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ankár algoritmus (Banker’s algorit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dfc08d"/>
                </a:solidFill>
                <a:latin typeface="Arial"/>
              </a:rPr>
              <a:t>Egyetlen foglalási lehetőség    (One-shot allocation)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ak az a folyamat foglalhat erőforrást, amelyik még egyetleneggyel sem rendelkez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en stratégia a várakozás közbeni lekötést tíltja meg meg azáltal, hogy a folyamatok csak egy lépésben foglalhatják le az összes szükséges erőforrá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átránya : a folyamatok akkor is kénytelenek foglalva tartani az erőforrásokat, ha pillanatnyilag nincs rájuk szükség, de a későbbiekben még kelleni fognak,illetve a kiéheztetés veszély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dfc08d"/>
                </a:solidFill>
                <a:latin typeface="Arial"/>
              </a:rPr>
              <a:t>Rangsor szerinti foglalás (Hierarchical allocation)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folyamat csak olyan osztályból igényelhet erőőforrást, melynek sorszáma magasabb, mint a már birtokolt erőforrások sorszá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z a módszer a ciklikus várakozás lehetőségének kiküszöbőlésével alkalmas a holtponthelyzetek megelőzésé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ényege, hogy az erőforrások osztályaihoz 1-1 növekvő sorszámot rendelünk úgy, hogy a leggyakrabban használt erőforrások kapják a legkisebb sorszámo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egy folyamatnak egy osztályon belül több erőforrásra van szüksége, azokat csak egyszerre igényelhe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dfc08d"/>
                </a:solidFill>
                <a:latin typeface="Arial"/>
              </a:rPr>
              <a:t>Bankár algoritmus             (Banker’s algoritm)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ohase elégítsük ki egy igényt, ha az nem biztonságos állapotot eredmény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ódszer úgy kerüli el a holtpontot, hogy a rendszert mindig ún. biztonságos állapotban tar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állapotot akkor tekintünk biztonságosnak, ha létezik legalabb egy olyan sorozat, amely szerint az összes folyamat errőforrás igénye kielégíthető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 kezelő tevékenysége hasonlít a bankáréhoz, aki a lehető legtöbb kölcsönt szeretné nyújtani a csődbe jutás veszélye nélkü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lgoritmus csak akkor működik, ha a folyamatok induláskor tudják, hogy a különböző erőforrásokból egyszerre max hányat fognak igényelni, és ezt be is jelentik az oprendszerne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dfc08d"/>
                </a:solidFill>
                <a:latin typeface="Arial"/>
              </a:rPr>
              <a:t>Bankár algoritmus             (Banker’s algoritm)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beérkezett igény teljesítése elött az erőforrás kezelő kiszámolja, hogy ha az igényt teljesítené akkor a rendszer biztonságos állapotban maradna-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igen akor teljesíti, ha nem akkor várakozó listára kerül a folya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egy folyamat visszaad erőforrásokat, akkor végignézi a várakozó listán lévő folyamatokat, hogy kielégíthető-e valamelyik igé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Lemezkezelés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1700280"/>
            <a:ext cx="3278520" cy="3024000"/>
          </a:xfrm>
          <a:prstGeom prst="rtTriangl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Mágnesdob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Buborékmemó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4552200" y="1575360"/>
            <a:ext cx="3025800" cy="3274920"/>
          </a:xfrm>
          <a:prstGeom prst="rtTriangl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iólógia tárol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Holografikus tárol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1187280" y="1699920"/>
            <a:ext cx="6553440" cy="3024000"/>
          </a:xfrm>
          <a:prstGeom prst="triangle">
            <a:avLst>
              <a:gd name="adj" fmla="val 50273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ágnesleme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kai leme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ágnessza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5084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ú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43640" y="5084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ö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5157720"/>
            <a:ext cx="5256000" cy="144360"/>
          </a:xfrm>
          <a:prstGeom prst="rightArrow">
            <a:avLst>
              <a:gd name="adj1" fmla="val 50000"/>
              <a:gd name="adj2" fmla="val 910224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dfc08d"/>
                </a:solidFill>
                <a:latin typeface="Arial"/>
              </a:rPr>
              <a:t>Bankár algoritmus             (Banker’s algoritm)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gyük fel a rendszerben összesen van 12 erőforrás és 2 folyamat (A és 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nyilvántartás alapján A folyamat legfeljebb 6-ot , míg B folyamat legfeljebb 11-et bírtokol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ndkét folyamat 4-4 erőforrást már le is fogla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 B előáll azzal az igénnyel, hogy kéri mind a 7 fennmaradó erőforrását, várakozó listára kerül, mint a szabad erőforrások száma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 viszont a max igények felhasználása esetén is zavartalanul fu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olyamat lefutása után B számára is jut elegendő, így folytathatja a munk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hát a folyamatok {A,B} sorrendben biztonságosan befejeződ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Folyamat és processzor kezelé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olymatok létrehoz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őütemező választja ki a hátértárolón lévő programok közül azt, amelyiknek elkezdőthet a végrehajtása, azaz folyamatá vál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utni készülő programokhoz, vagy folyamat csírákhoz Folyamatleíró blokkot (PCB –Process Control Block) rendel és betőlti a memóriá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dfc08d"/>
                </a:solidFill>
                <a:latin typeface="Arial"/>
              </a:rPr>
              <a:t>(PCB –Process Control Block)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844640"/>
            <a:ext cx="2448000" cy="1150920"/>
          </a:xfrm>
          <a:prstGeom prst="can">
            <a:avLst>
              <a:gd name="adj" fmla="val 50000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áttértá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2060640"/>
            <a:ext cx="1657440" cy="9367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oad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720" y="1916280"/>
            <a:ext cx="1439640" cy="43308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mo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2349360"/>
            <a:ext cx="143964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2781360"/>
            <a:ext cx="1439640" cy="43344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157640" y="3627360"/>
            <a:ext cx="792000" cy="1763640"/>
          </a:xfrm>
          <a:prstGeom prst="flowChartOffpageConnector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őütemez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4076640"/>
            <a:ext cx="1585800" cy="934920"/>
          </a:xfrm>
          <a:prstGeom prst="flowChartMultidocumen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árakozási 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516640"/>
            <a:ext cx="2232360" cy="57636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516640"/>
            <a:ext cx="2232000" cy="57636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LYA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2276640"/>
            <a:ext cx="719280" cy="431640"/>
          </a:xfrm>
          <a:prstGeom prst="rightArrow">
            <a:avLst>
              <a:gd name="adj1" fmla="val 50000"/>
              <a:gd name="adj2" fmla="val 41660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2349360"/>
            <a:ext cx="719280" cy="432000"/>
          </a:xfrm>
          <a:prstGeom prst="rightArrow">
            <a:avLst>
              <a:gd name="adj1" fmla="val 50000"/>
              <a:gd name="adj2" fmla="val 41625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0"/>
            <a:endCxn id="132" idx="0"/>
          </p:cNvCxnSpPr>
          <p:nvPr/>
        </p:nvCxnSpPr>
        <p:spPr>
          <a:xfrm flipH="1" flipV="1" rot="10800000">
            <a:off x="3347640" y="2491200"/>
            <a:ext cx="326160" cy="2019960"/>
          </a:xfrm>
          <a:prstGeom prst="bentConnector3">
            <a:avLst>
              <a:gd name="adj1" fmla="val -70165"/>
            </a:avLst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508720" y="4292640"/>
            <a:ext cx="718920" cy="431640"/>
          </a:xfrm>
          <a:prstGeom prst="rightArrow">
            <a:avLst>
              <a:gd name="adj1" fmla="val 50000"/>
              <a:gd name="adj2" fmla="val 41639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01080" y="4292640"/>
            <a:ext cx="718920" cy="431640"/>
          </a:xfrm>
          <a:prstGeom prst="rightArrow">
            <a:avLst>
              <a:gd name="adj1" fmla="val 50000"/>
              <a:gd name="adj2" fmla="val 41639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5805360"/>
            <a:ext cx="295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3068640"/>
            <a:ext cx="0" cy="9367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Környezetváltás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PCB-k, illetve a benne foglalt adatok képezik az operációs rendszer folyamatainak környezetét, kontextus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a a rendszerfolyamat egy másik felhasz. Folyamattal akar foglalkozni, akörnyezetét kell átkapcsol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 a context swi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A folyamatok állapota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lapállapoto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utásra kész: a processzoron kívül minden erőforrás rendelkezésre áll, a folyamatok létrejöttüket követően KÉSZ állapotba kerül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UT : a processzor ép végrehajtja az utasítás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árakozik: Ha a futó folyamat erőforrás igénye lép fel, de az nem áll rendelkezés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A folyamatok állapota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llapot kimenet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indul: kész-ből – fut-ba ker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gszakad : a számára biztosított idő lejártával ismét fut állapoba ker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ár : fut-ból várakozik-ba ker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léled : a várt esemény után kész-be kerü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627280" y="2205000"/>
            <a:ext cx="720720" cy="129528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Processzor ütemezé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1628640"/>
            <a:ext cx="3167280" cy="57636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tásra váró munká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3280" y="2421000"/>
            <a:ext cx="3167280" cy="57636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lfüggesztet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3500280"/>
            <a:ext cx="3167280" cy="57636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tásra k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4508640"/>
            <a:ext cx="3167280" cy="57600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5589720"/>
            <a:ext cx="3167280" cy="57600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fejezett munká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1640" y="5084640"/>
            <a:ext cx="432000" cy="505080"/>
          </a:xfrm>
          <a:prstGeom prst="downArrow">
            <a:avLst>
              <a:gd name="adj1" fmla="val 50000"/>
              <a:gd name="adj2" fmla="val 2922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997360"/>
            <a:ext cx="360360" cy="502920"/>
          </a:xfrm>
          <a:prstGeom prst="downArrow">
            <a:avLst>
              <a:gd name="adj1" fmla="val 50000"/>
              <a:gd name="adj2" fmla="val 3489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407664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4076640"/>
            <a:ext cx="358560" cy="432000"/>
          </a:xfrm>
          <a:prstGeom prst="upArrow">
            <a:avLst>
              <a:gd name="adj1" fmla="val 50000"/>
              <a:gd name="adj2" fmla="val 3012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3068640"/>
            <a:ext cx="358560" cy="431640"/>
          </a:xfrm>
          <a:prstGeom prst="upArrow">
            <a:avLst>
              <a:gd name="adj1" fmla="val 50000"/>
              <a:gd name="adj2" fmla="val 3009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700280"/>
            <a:ext cx="287280" cy="936720"/>
          </a:xfrm>
          <a:custGeom>
            <a:avLst/>
            <a:gdLst>
              <a:gd name="textAreaLeft" fmla="*/ 0 w 287280"/>
              <a:gd name="textAreaRight" fmla="*/ 103680 w 287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781360"/>
            <a:ext cx="287280" cy="936720"/>
          </a:xfrm>
          <a:custGeom>
            <a:avLst/>
            <a:gdLst>
              <a:gd name="textAreaLeft" fmla="*/ 0 w 287280"/>
              <a:gd name="textAreaRight" fmla="*/ 103680 w 287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3860640"/>
            <a:ext cx="287280" cy="936720"/>
          </a:xfrm>
          <a:custGeom>
            <a:avLst/>
            <a:gdLst>
              <a:gd name="textAreaLeft" fmla="*/ 0 w 287280"/>
              <a:gd name="textAreaRight" fmla="*/ 103680 w 287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1989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gas szint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özbenső szint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32360" y="4149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acsonyszint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Processzor ütemezé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árakozási id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megadja, hogy a folyamat mennyi időt töltött tétlen várakozáss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tfutási id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a folyamat érkezésétől annak befejezéséig eltelt id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álasz id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azaz idő, ami a folyamat rendszerbe állításától az első futás kezdetéig telik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dhárom esetben tanulságos a szórás, illetve a folyamat igényére vonatkoztatott arány szám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érkezé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lyamat a futásra kész sorba érkez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kezd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utás kezdőidőpont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efejezé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lyamat elhagyja a rendsz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igé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lyamat processzoridő igén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4653000"/>
            <a:ext cx="8064360" cy="5047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várakozá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befejezé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 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érkezé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 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gén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5229360"/>
            <a:ext cx="8064360" cy="5047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válas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ezd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 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érkez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805360"/>
            <a:ext cx="8064360" cy="50508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átfutá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befejezé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ezd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Processzor ütemezé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őbb jött, előbb fut (FCF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egegyszerűbben megvalósítható ütemezési móds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 egy nagy futási idejű folyamat keveredik a rendszerbe, folyamatok egész sorát tarthatja fel (Kamion hatá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rövidebb előnyben (SJ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őnyben részesíti a rövid processzoridő igényű munká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rantálja a legrövidebb átlagos várakozási idő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örben járó algoritmus (R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olsó pár előre fuss elvet valósítja 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dfc08d"/>
                </a:solidFill>
                <a:latin typeface="Arial"/>
              </a:rPr>
              <a:t>Round Robin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den folyamat egy adott időszeletig futhat, majd újra sorba kell áll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2133720"/>
          <a:ext cx="8280360" cy="4106880"/>
        </p:xfrm>
        <a:graphic>
          <a:graphicData uri="http://schemas.openxmlformats.org/drawingml/2006/table">
            <a:tbl>
              <a:tblPr/>
              <a:tblGrid>
                <a:gridCol w="1035000"/>
                <a:gridCol w="1035000"/>
                <a:gridCol w="1098720"/>
                <a:gridCol w="971640"/>
                <a:gridCol w="828360"/>
                <a:gridCol w="863640"/>
                <a:gridCol w="1413000"/>
                <a:gridCol w="1035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lya-ma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rk. id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zd. igé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zd. id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. id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ár. id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adék igé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. Vár. Fol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2,F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3,F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2,F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2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5,F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4,F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4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5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Mágnes lemezek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ejmozgási idő: (seek time) azaz idő, amíg a fej eléri a kívánt blokkot tartalmazó sávot. Értéke a 10ms nagyságrend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fordulási idő: (latency time) a kiválasztott blokkot tartalmazó szektor fej alá kerülésének ideje legrosszab esetben a körülfordulási idő (~10 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datátviteli sebbesség: (transfer time) a blokk adatainak továbbítására szükséges id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60/s fordulatszámmal , 63 szekrorral számolva azaz idő míg a fej egy blokk felett tartózkodik, kb 0,25 ms, Ha blokkmére 512 byte a szükséges átvieli sebesség 2MB/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Eszközmeghajtók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lemez szközmeghajtó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2492280"/>
            <a:ext cx="5400720" cy="649440"/>
          </a:xfrm>
          <a:prstGeom prst="rect">
            <a:avLst/>
          </a:prstGeom>
          <a:solidFill>
            <a:srgbClr val="2d201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9ea0"/>
                </a:solidFill>
                <a:latin typeface="Arial"/>
              </a:rPr>
              <a:t>Felhasználói folyamat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3141720"/>
            <a:ext cx="2737080" cy="2087640"/>
          </a:xfrm>
          <a:prstGeom prst="rect">
            <a:avLst/>
          </a:prstGeom>
          <a:solidFill>
            <a:srgbClr val="2d201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3141720"/>
            <a:ext cx="2663640" cy="20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27280" y="4508640"/>
            <a:ext cx="18734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3357720"/>
            <a:ext cx="1296720" cy="5029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szolgálandó folya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3429000"/>
            <a:ext cx="1655640" cy="5047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lső” sz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4653000"/>
            <a:ext cx="3672000" cy="43164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ó” sz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5734080"/>
            <a:ext cx="1657440" cy="50328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5734080"/>
            <a:ext cx="2449800" cy="50328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zegysé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5950080"/>
            <a:ext cx="9349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6000" y="4076640"/>
            <a:ext cx="144360" cy="28908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4076640"/>
            <a:ext cx="144360" cy="28908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4076640"/>
            <a:ext cx="144720" cy="28908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" name=""/>
          <p:cNvCxnSpPr>
            <a:stCxn id="59" idx="1"/>
            <a:endCxn id="64" idx="1"/>
          </p:cNvCxnSpPr>
          <p:nvPr/>
        </p:nvCxnSpPr>
        <p:spPr>
          <a:xfrm flipH="1" flipV="1" rot="10800000">
            <a:off x="4931280" y="3680280"/>
            <a:ext cx="864360" cy="540360"/>
          </a:xfrm>
          <a:prstGeom prst="bentConnector3">
            <a:avLst>
              <a:gd name="adj1" fmla="val -26458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6" idx="3"/>
            <a:endCxn id="60" idx="3"/>
          </p:cNvCxnSpPr>
          <p:nvPr/>
        </p:nvCxnSpPr>
        <p:spPr>
          <a:xfrm>
            <a:off x="6229080" y="4221000"/>
            <a:ext cx="430920" cy="648360"/>
          </a:xfrm>
          <a:prstGeom prst="bentConnector3">
            <a:avLst>
              <a:gd name="adj1" fmla="val 152759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348000" y="5084640"/>
            <a:ext cx="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5084640"/>
            <a:ext cx="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076720" y="501336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2050560" y="3068640"/>
            <a:ext cx="73080" cy="2665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5373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zérl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537372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zérl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5373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gszakít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6143400" y="3944880"/>
            <a:ext cx="18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zközkezel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Lemez ütemezé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ső szint feladata a kérés átvétele, vizsgálata, és elhelyezése a várakozási sorban. Ha más magasabb szempont nem szól bele a dologba, a kiszolgálás sorrendjét csak a várakozási idő optimalizálásának célja vezér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árakozási idő mellett annak szórása is fontos paramé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orrendi kiszolgálás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orrendi kiszolgálás: (First Come First Served – FCFS) a legegyszerűbb straté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kisebb elérési idő: (Shortest Seek Time First – SSTF) a legkisebb fejmozgással járó kérés van elönyben . Itt a legkisebb átlagos várakozási id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ásztázó: (Scan,Look) a fej állandó mozgásban van, az írányban eső kéréseket szolgálja ki, az írány akkor fordul meg, ha már nincs több kérés , vagy a fej elérte a szélső sáv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írányú pásztázás: (Circular Sca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ímszámítás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szközmeghajtó alsó old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olyamatok lineáris címzést szeretnek, a lemezegység vektoros 3 paraméterből álló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lokksorszámot (b) a fej(h), a cilinder (c) és a szektor (s) sorszáma alalpján a következő képlettel számolhatjuk 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=h*C*S+c*S+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 a cilinderek száma, S a szektorok szá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dfc08d"/>
                </a:solidFill>
                <a:latin typeface="Arial"/>
              </a:rPr>
              <a:t>Erőforrás kezeké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rőforrás kezelő a rendszermag azon része, amely az erőforrások elosztásáért és lefoglalásáért felelő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rőforrás foglalási gráf: szemléletes eszköz az erőforrás igények és foglaltságok állapotának ábrázolásá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gráf a folyamatok (körök) és az erőforrások (téglalapok) vistonyát mutat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dfc08d"/>
                </a:solidFill>
                <a:latin typeface="Arial"/>
              </a:rPr>
              <a:t>Erőforrás kezeké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2276640"/>
            <a:ext cx="720720" cy="720720"/>
          </a:xfrm>
          <a:prstGeom prst="ellips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2276640"/>
            <a:ext cx="1727280" cy="79200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4292640"/>
            <a:ext cx="720720" cy="720720"/>
          </a:xfrm>
          <a:prstGeom prst="ellips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292640"/>
            <a:ext cx="1727280" cy="79200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2492280"/>
            <a:ext cx="1655640" cy="289080"/>
          </a:xfrm>
          <a:prstGeom prst="rightArrow">
            <a:avLst>
              <a:gd name="adj1" fmla="val 50000"/>
              <a:gd name="adj2" fmla="val 143182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68360" y="4508640"/>
            <a:ext cx="1872000" cy="288720"/>
          </a:xfrm>
          <a:prstGeom prst="leftArrow">
            <a:avLst>
              <a:gd name="adj1" fmla="val 50000"/>
              <a:gd name="adj2" fmla="val 162095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32846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z „A” folyamat igényli az „I” erőforrá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5445000"/>
            <a:ext cx="64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„B” folyamat birtokolja a „II” erőforrá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Holtpon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öbb folyamat egy olyan erőforrás felszabadulására vár, amit csak egy ugyancsak várakozó folyamat tudna előidéz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gyük fel, hogy a rendszer minfkét szalagos egysége szab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 folyamat igényel egy szalagos egysé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 kezelő lefoglalja az I szalagot az A folyamat szám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B folyamat igényel egy szalagos egysé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07:34:26Z</dcterms:created>
  <dc:creator>Nagymáté Péter</dc:creator>
  <dc:description/>
  <dc:language>en-US</dc:language>
  <cp:lastModifiedBy>Nagymáté Péter</cp:lastModifiedBy>
  <dcterms:modified xsi:type="dcterms:W3CDTF">2003-11-27T14:58:50Z</dcterms:modified>
  <cp:revision>17</cp:revision>
  <dc:subject/>
  <dc:title>Operációs rendszerek</dc:title>
</cp:coreProperties>
</file>